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4284"/>
        <c:axId val="80096476"/>
      </c:barChart>
      <c:catAx>
        <c:axId val="1404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96476"/>
        <c:crosses val="autoZero"/>
        <c:auto val="1"/>
        <c:lblAlgn val="ctr"/>
        <c:lblOffset val="100"/>
        <c:noMultiLvlLbl val="0"/>
      </c:catAx>
      <c:valAx>
        <c:axId val="80096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4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61B-1D63-4AC0-B6BE-55798ADC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356-49CD-4740-BB61-8C48CE9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370-0252-430D-B9C1-B9C4B671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431-832B-4AA3-8520-F462D60E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4C5-E91F-4C8B-A87F-CA54D381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F03-0743-4A23-BCB0-21C0CF1E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792-1364-44D3-82DF-09C92BDF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915-F998-4326-B497-9D2F8FE6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4B6-86C3-4A94-900F-45CA6D47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F3A-155E-43ED-8916-1707DA2C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6B3-884D-4459-9CE8-8FAA35CE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A56-5157-472F-B961-3F5D1B97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F1221-8134-45B8-AE90-B10803CCB8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