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18566"/>
        <c:axId val="60747032"/>
      </c:barChart>
      <c:catAx>
        <c:axId val="7231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47032"/>
        <c:crosses val="autoZero"/>
        <c:auto val="1"/>
        <c:lblAlgn val="ctr"/>
        <c:lblOffset val="100"/>
        <c:noMultiLvlLbl val="0"/>
      </c:catAx>
      <c:valAx>
        <c:axId val="60747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1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7E0-DFA5-4E14-A164-83A46458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570-B8EA-498C-82F3-8EB2A53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C7E-3C84-4223-86D7-4B9479EC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E8D-A7D6-4145-8B2C-1578619F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733-C9B1-4BD4-9A71-9BE69E7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8E0-4370-46B7-B1AC-8474B724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F6E-1FD4-43D8-9F14-9030A34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C73-C141-43F1-92DA-B308FA7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DAF-19B1-46E7-8933-2B1D46C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876-6FE3-4C2A-9C73-B86302E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073-D1A5-4281-A81D-CB9F17E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6A3-8E02-408C-A7F6-BF66DEA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19908-E09F-429F-B89D-C7B2D9113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