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A5F9CE1-2DC2-40F5-A01C-208C42122A7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F1D937E-21FF-4054-A964-31B92AE22E4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37D939B-38C3-48A4-80E2-CB88FB586DD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FF7FACA-82D6-4C9C-A7FB-CB11ED575BA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2B5E113-598F-45E9-B07B-C724C472404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C9B7B1E-2C2D-4648-91B1-2A896C512BC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AA2C665-2C6A-4AC0-A91B-B2A5F9922A6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F99DB18-2E92-4B72-B9F1-EB9118AE841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B8E000A-A610-4172-83A2-B974EF98414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BEBB2C4-EC47-4339-96A8-061AF3A2B48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85EFF8F-D685-414B-8128-FFB0F7DA6F7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F0E94A9-979D-4122-89DE-D1D264C5E8F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FF9B70F-9AED-416B-9C1B-4D15E877904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A411D79-A283-48A7-9C5D-F6DDBC75AAB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70AD585-E3B2-42D3-BB79-21501F91A8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AF8F702-FCB1-4E11-965F-1EE0B755E60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BC86926-6534-4015-A4FB-33678043EA7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C57D109-328B-49CF-BC77-9949F547284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6054F43-9BEC-46C6-84A5-EB5A6EFCD29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07BF26D-6577-4C18-8B94-5B2175453B9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B855A1C-2580-406C-B100-A2CE301C668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B1A0CBB-93AA-4CD7-8313-215C5145335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F207201-8B5A-4E5E-B9EB-A4E5E54E42E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CC01A98-DA2C-4B04-BD07-69FD0561D0B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0A2405F-52D9-48A0-8EB1-E01A7C99B9F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9754A11-93F3-4E33-9B01-84089EA1123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6BF63AD-4ED5-45F7-A916-DA3518988F7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72147EF-1090-49EA-9366-5F2CF157018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169C79A-EF56-4E36-BE26-29923555A12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915D27E-5870-4971-B282-162EEF8FD6D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162FCEF-C4C2-4E83-8A2C-458B82F25C3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43AF953-1809-48FA-9C23-FB49E17A114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B660C0E-A3E1-402E-B3BD-4CEAF2F5319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BC5A5EA-393F-4570-855F-6F3A8AD3A9B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29E0F5-0D65-4221-975B-2F34B4B935C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3828BCB-E093-4CC3-BE13-C25B8342C8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A85A7-4020-4396-89A4-DDA14F2D23BF}"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CE668-BB69-4DA3-BA61-E3C413800F5F}"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8EEFFA1-E1AB-4D65-81AE-D8015F86A849}"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E73B365-40CE-4A68-8649-23ECD369FA3E}"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15A0C7F-E58F-4CEF-B733-107FE4FB3F6D}"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FAEE474-FB67-45CD-B4C4-DEA7197EA2C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A2434A9-9DB6-4E83-AD57-D6E2D9909E31}"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C990CCF-CBFD-472B-A09E-2088C39ABBCD}"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5C551B1-BD73-4007-AE84-97CDF09DE0BE}"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7C45FCA-D176-4AD6-BDBE-5E152BE1330D}"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B312C3F-C40C-4309-98B8-ECEAC23B060E}"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EDC1D86-938F-4D3C-8A01-CC8B8EAF2735}"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403DFB9-0846-48BD-82F5-C2C7BB261E0B}"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F5C35142-1266-4A67-AF34-E7AA166DEEC9}"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AEE3C3A-BE1F-411E-8653-ED0FF11F6321}"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FBB0B5F-82E3-479F-9D84-69B3C2480EE3}"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C6B04BF-A7CB-493C-94A9-EF184DBECF4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30DF867-7715-4C68-B4DD-665E0F98AB26}"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2378894-412B-4FE1-945B-815ED13F450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CCA1C9C-8E72-4513-A65A-5D77126B924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9BEE4D8-E924-4429-A0A0-DEBE6CF1B936}"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7CDCDFA-B19A-4A2B-B2F7-5B7B2BC08B5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F8F43EC-5DB7-4A1E-9508-F3FBD4DC9E2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E3D550F-CC87-4298-B039-2A9FA1B52A35}"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9387A28-13D2-4A3C-924B-4ABF83E1BC5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E1A6DE1-F37A-4F41-8231-E4B8AEA2884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C919E86-81BE-4BDB-A8A4-03DA3AB0355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B7778D8-12A8-4168-A92E-D32CA385AF5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2FDE5F1-8001-4C8B-960E-4376213BD549}"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A925232-0623-484A-8BD4-B7D174FC45A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D34A8C5-F093-44D9-92D2-05DD163E3F2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5E8E439-7FAA-435A-9579-AC3BD6AA6CBC}"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32C8D29-D26E-4700-8C0B-E881D174C4D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35F12D0-80F0-485B-AB6B-44BFC8734CC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A7F0A07-F29F-48F1-AB09-8747629339D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11470E4-A0EE-4B0F-ACF7-07EDBEF4E1A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7F7664F-FCBF-48D6-A0CC-84015A9ACCB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C68514E-457E-4B3B-B7E5-2C982179A52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59E9C30-E28D-4D8B-810D-022BDC8F92C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89A8299-434A-4362-B971-D7C32E130964}"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26901C2-BF30-4A51-AF8A-2180A76767B6}"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84A3DF9-0B5F-4641-802E-38D6F11BA05D}"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147A644-6991-4B51-A99B-E4F695968E7D}"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FED9666-74A0-4648-9E6E-AD4837E29EB7}"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EDB6A13-7E13-4ECC-8611-FF42FD3511CD}"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C40D221-0401-42A0-A662-72277022720E}"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58512D0-4351-4290-82B6-B96492C0BEFB}"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2B91FE4-94C1-4D65-A36D-29CD83CDE0E7}"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4332111-8C6E-42D7-B84F-EE0290931B63}"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917D990-FF7D-4F54-AE65-FB06501166FB}"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0C00122-B241-4A93-B09C-82399474F232}"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8183DCA-8C09-4706-AAF2-E37BCE66BBA1}"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444695F-2EA8-4E80-99D6-FB4E48FE50F3}"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C2B469E-F85E-4275-91E2-2555B8BAF91C}"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8A4BE52-E062-4F46-AC34-F6F50E7D4690}"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C7DE688-2336-416C-9A2C-5B38641BFC9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16728AE-0183-4BD1-AB6F-70524F1FF124}"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FB5AD14-1BC9-4DE7-BF99-9FEF2781BFE3}"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5949A9B-A24C-47DB-85A1-161B1FF4F56C}"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6C4579B-693F-430E-831E-BC6A18A08170}"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663A34A-E522-41D3-8076-E0F98F4FB480}"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99FB071-E3C4-40D3-B99E-3F35FBDB4019}"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514A10A-1A01-40E7-B902-FADEAC599771}"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F4942B9-35B0-4F16-A57F-1F8C46071D4B}"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7280E42-538E-4C20-B7A8-9EAB690C8FC4}"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58E8114-A8F9-4B08-81D7-FFF0A2C85D10}"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DFFAEAB-03D7-4747-A5DB-A16026E73F8A}"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DBE114E-F413-46A6-873F-198B99678950}"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853E134-7C0D-4C85-B609-987047BFD538}"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9B14291-1772-4025-966E-190304B52669}"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FC20076-3AE2-415A-8A43-007252EED956}"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D2D2DBC-225E-418C-90C7-147536EA83EE}"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7494686-8E37-43EE-A264-E4C0FBDA658A}"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BBE2D9E-2453-48E4-8708-E1BACBE319CA}"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D6B6BAE-E5A6-4DC4-B986-FB0D46564E8E}"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179BA6F-F647-47FA-815E-A90C05C4EF53}"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D925D3F-8D21-402C-BE0D-549FABB19C3C}"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AB23DBA-D40D-45D0-B01A-4F9EAF0A3D52}"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FAE9CC5-12A0-4CAC-98EC-DA3207EA2577}"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5D45CD8-08A2-4652-93A6-742639B4782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4862960-8304-4156-9834-84C30E7FB9D0}"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9D26A13-18F3-448B-A5CD-6BA6681BCF6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6B99411-9DEA-4645-9036-7E6FE0CBED98}"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34FC41F-37B1-43D7-BD83-0FB0CF610E49}"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B742867-6D52-42E2-81CA-6BB08EFCA343}"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E69633F-410F-4FA8-9F2D-18A290DE1412}"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552C28C-B7D7-4135-8CAC-94E0CFFE1886}"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290A6DB-5D55-41CD-96DB-98E7D44B3E35}"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EC4D6C6-0537-4D37-9A33-B5F5A5CD327D}"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018F316-D3F9-4354-9B99-69C3EA7DC263}"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15002E5-0A4E-47FC-BA38-0E42CF4A4B97}"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BF0E3F2-ADA6-4BE4-B5E2-4C8730172F6E}"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12B3AD0-0BEB-4BC3-BC68-E97FA18135DE}"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02F0F8E-315F-4741-A200-43017F234D9C}"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7BE8DDF-C701-455E-8F6B-6FFE3922E874}"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3B7DD8E-929C-43E3-9694-B9E8F8F51149}"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12BEE4A-FBFE-4A71-A261-503A9ED4F972}"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0236F71-1961-42F6-BD78-25269A335B59}"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9D32575-231E-4635-A183-B3FC355AED7F}"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E73FBD68-3E9D-4858-9690-18FF133CF5A1}"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7611481-88E5-471D-9034-72BCD372B8F6}"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EFB098C-4C6A-4586-A7F9-317D81EA5BCD}"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5A5DEA2-712A-439C-B097-5078138ABE89}"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195ED3A-C440-46D3-A0D4-C15D08C1476B}"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791D09B-BBF2-43C3-A633-95D1BA3C17A1}"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40A7692-6DB0-4EDD-A66E-5E90F7DF0645}"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845FF30-C2A9-4115-856C-BBB4C6AF6C54}"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889EB39-E6DC-4057-88BE-3436598A2AF0}"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2333556-60D2-4B8E-89C9-98B74060EEBD}"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C9EBE11-A4C8-42E0-96C0-52FEBAB776D6}"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58E9B9A-061F-4DAE-9596-267B88297033}"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1F5DFF8-28B4-4A5B-A32F-E4E82750315C}"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22F85F9-E80B-43E6-9C42-6C2AD925EC00}"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