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F4E8612-7777-4AF3-B2A7-3D504E2968E6}"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53ADBE6-41D4-44F0-A3C1-FC3A172F6CE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A6B12FC-E517-4D93-B991-32BED91B215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4BDB0E9-7D18-4E07-8159-95D4029113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440D32A-400C-4E0B-9DFB-888895562A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FECA5B5-665F-4CC3-BD9F-4E03C138F79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939AFD0-F89D-412C-BB42-66278815EC4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FE1281B-197B-44C0-B72D-3F9254E574F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0C1CC2D-5A40-4225-B902-F802AA16DF3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054F44C-2B50-4DCF-BBBE-D71B43AFDB4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F86BE7F-4B86-430E-98B2-77BA805D8F9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D350509-EBD2-4163-9CFF-6B2ED968D3B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57002B2-08FF-4CDD-B81C-726B0575231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6E4EAF1-1C9F-4D9C-80B2-EBD5F4D3057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9E0AA42-5A12-4A54-A6E5-91DA924C215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78464B7-E4DD-4445-B598-E64A020C1A8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5B0E0D8-5BDC-4040-84AD-45C3885A8F2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7288660-59D5-4EE1-AA01-59982927587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0D6266B-14C7-4334-A58D-45B3A0AF930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6B20396-36F3-4E25-9DDA-3AC62619B6F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3FA975F-17EB-43AA-B92F-EE9FA1B4F05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72C16AA-C8E8-4517-B930-D05C92F8B93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B3F0F58-EF61-4ED7-8231-E5DEB8E3E32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7EEE49B-884B-4612-BAE5-E91054D110A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13E3AC0-240F-45E1-B118-F96AD51A8D5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1B8F06A-AA72-446D-BFCF-B4CF71D8DD5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D09EE-D0F6-4E11-9143-ADAC7C11F88F}"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96B13-4094-4372-9F9B-EB49663187A7}"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028A43E-337C-445E-96EF-75CB5DB75651}"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06E2AE9-5A73-49BE-839F-E69F7F5C807A}"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66F3945-9C0E-4506-B35F-D7210003AFED}"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9105629-34B3-46C0-9348-2A283E1AC3EE}"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7B6643B-CC84-4420-AA49-7C29824D3942}"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B2BB650-C859-47DC-BC23-44D15DAE02D5}"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E2C6C66-1B5A-483D-B25E-035FAD93738A}"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445EAB2-E43D-4A90-8F95-ADEEE2030E47}"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BFC2EAF-DE78-44FA-A62B-95DED2F8ABFE}"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F57AE2C-F994-4FC3-97AE-9179DCDDE1E1}"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E8D3CE9-76ED-4E21-ADAE-468315B512B9}"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F74EAD9-5E5A-4C01-BB5E-FDBB349A5605}"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CDA3964-40A5-4B27-B69D-AD38D05FC064}"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5764BF6-22AB-49B4-80F4-3CF4FBFEAD03}"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2AC1F83-9492-4AC8-A08E-73CC660A85F1}"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14138BB-632E-4B19-97BE-98D38248824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80EED36-F1D3-4376-89B7-CE506CF1D7B1}"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5ECB2FE-755D-4640-A02D-54C643AAFC7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3A3E2876-76B0-4740-AADC-AF475F50290F}"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3E2A285-50C2-4002-9833-453257D70B6C}"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ACB3C29-E14E-4FC9-A8F0-89ED1DB007B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46CCABC-B4D6-4CA5-9B65-6A60146EF89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DC936E9-4231-4682-AFE9-1A2B2DB2598A}"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371BD44-6C29-4907-9F33-D2497281BBD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E509569-4F77-4366-8040-1D60B7FAA45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40BC8D4-63DE-47EA-B27B-64E870F7B0B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CE5FDFF-65E7-4940-8FE3-0D034542BAC2}"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33AF366-B732-4546-A6F4-FE3A8317363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5DF9D7A-E0E9-4300-A581-64A33E728B7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4E55045-4EA1-42A5-BF16-6A60CA367C4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B57C744-4D5B-4236-912E-9D0EA1B113D7}"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3DAB72B-BAD8-4DBA-B3A0-27BE055F324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3E23573-8C83-44D6-8A11-ECD8A2334F3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2309C0F-4124-4CDA-88A0-4146493A7543}"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1D4167A-43E0-4CBA-B24E-6102D74DA00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D87FD11-D59E-4B4E-99E1-8A48DB3155F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9CD4481-2E18-4257-8E29-7A5F2488D64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C77BCDA-5B24-44A5-9D6E-C2C8C676D0E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C8021F3-9A53-46AA-AC6C-D9BB286588DB}"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68D64AC-99B0-429A-B63A-D5295789E7BF}"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36FF7CD-9E38-411C-B0DF-CEC411031E72}"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8CB05A3-E990-432B-B783-CE1AAD0B93EE}"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B386CF0-FEC1-498E-9CD6-78EC9FFB1344}"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B024082-470B-4B33-9D70-9E63A11C28DC}"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59BA8CD-50D3-4AF1-AD0E-9C2C566FFB41}"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7C9E5AB-166B-47E8-9110-4590D4FCBF77}"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050CB36-D60C-4DCA-B9BE-AC46FE2AD8F4}"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0258033-BEE1-43CF-A4FA-8110B55E6FA3}"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0A3AD19-6969-4C96-9825-97407E96FE57}"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FD31850-4689-48FF-BB75-CDB335C513E6}"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D979199-ABF9-4DDC-860A-BA02A13FC087}"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B614192-D84B-4E4C-A7B1-0D1E0522658B}"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D0A0CE9-4004-480E-A5AD-D2B6FADF9BF1}"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3DE9572-3621-4A88-A348-59C81E5CFD8F}"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D55F14C-A81F-47B8-8BF5-F7FD3334F43E}"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9A529CE-6C95-4C39-AF40-3FC89FEEBDD8}"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57FAC40-7ACD-4288-8A04-936F521D7843}"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66A35B1-A76C-4C8B-A209-7959C16F348A}"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F2322F9-077E-4EDE-833F-F9DBF06A2D7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C34B9F9-9CDE-491B-A79E-4A12771B2531}"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093E172-754D-49B8-ADD5-F076DF1FAA76}"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642AF54-4916-43A0-A30D-157F5862EE5C}"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E405DE3-8AE0-4F45-B06D-3137633EF008}"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F646250-739D-4F8F-9616-ABF2F3CCCFB2}"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5A84652-7E1C-49A1-B128-42F1D7C0582B}"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6C07AD2-8F94-470C-A4E2-582F97CC9C04}"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0449D92-AAFD-48F9-8DB1-9742D8681231}"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D5FE864-58F3-4971-BF68-0B9E785F4D39}"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8EE4E2E-64F6-4550-88FF-EE37AE1DD39D}"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DB6B324-15E4-4F0E-BEF7-6B2950C2B943}"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1C0BD73-385B-4EA3-A4EE-1A7C714DEBF8}"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8E26E42-D007-441D-AB9C-D9F233BA03CA}"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6F68515-1149-430D-8671-AB7B3CEC61FA}"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F156208-EFFC-4C61-8498-37B92AE58015}"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CE508C8-EE2F-42CE-8AC2-7BA81D6910B3}"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B28D7BA-7E14-4722-8927-1DF47FEADEB6}"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06B9A53-6FD1-4355-84AF-EDD80CFB7C5D}"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7B5021C-B334-4F16-8009-CBCABA8D8D39}"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7FD2CC9-BB46-4DCA-8F71-AE2669909608}"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80FF9EA-0578-4DB1-BF6E-6465942B81EC}"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9D6101B-0FC2-4A15-9DAD-47165A59A17B}"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00C509D-9BD0-47F7-8B41-553255FEE543}"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8B10287-C00F-4AC2-8540-2D5E6F73671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5E7D6C1-6055-421D-B0D5-A50139F29EE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6D7765B-899E-4B24-9013-74A8B6A39B38}"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4CA81E3-B9CA-4737-9721-A89384FB2C88}"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0B59B67-98D2-4D27-AF0E-1AB5F919932C}"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3CDD863-3E3A-48A3-A23A-0EA00918D60D}"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4CEF6C1-C157-4A90-9342-444A7C55A763}"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CAC604F-AAC0-49FD-A277-323F13C92AB3}"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4D125AB-5665-40D1-889A-805E00029B76}"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5F41BED-8324-4EAD-B1D5-D37281AE44A2}"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EC5F2DA-F92D-4ED6-8669-F6ADB6E98112}"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4FD6E92-FCE4-49ED-A8C2-89079D4A994C}"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82B2D678-6934-4F4E-88F8-6460DF444BA9}"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53B49E6-6FA2-4724-8139-9896B94BEE1A}"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ED9EE78-FF75-4A1D-8377-841E09C737E7}"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C5F6B1C-6E33-4F77-AF67-8599FDED27B9}"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879BBB8-A9CF-4568-8E4D-D407E74FBFDB}"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6A3A29A-C88C-4ACB-8570-57582677622F}"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ECB87B7-3888-4E4B-B38F-682AA8DD143C}"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46C9B95-37FE-4281-B78A-7DEA6A3432A9}"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FD2A98D-E100-4B15-A7AF-6461433A5488}"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36EE49D-9BEF-4936-84BF-46D858EF1A06}"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E57154A-0693-4AAD-BA1D-CD3CC092155F}"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3B6616C-2511-44A9-B1B2-D87BDD6790F3}"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8FDD988A-90CB-44AD-8219-ECCE0DB243B0}"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E4805D6-77F0-41D4-82E6-DBC481123080}"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3F882E4-2D7C-4A4B-A434-DBC3963F6F67}"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4CCC5D0-9DBF-4383-8C2E-5EFB0C7454C4}"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A867371-B5ED-44FA-AD43-43429FD0C5AE}"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D744859-67D0-47FB-A4F3-357D486C924A}"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